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ct" ContentType="image/x-pict"/>
  <Override PartName="/ppt/media/image17.pct" ContentType="image/x-pict"/>
  <Override PartName="/ppt/media/image6.png" ContentType="image/png"/>
  <Override PartName="/ppt/media/image11.png" ContentType="image/png"/>
  <Override PartName="/ppt/media/image20.pct" ContentType="image/x-pict"/>
  <Override PartName="/ppt/media/image18.pct" ContentType="image/x-pict"/>
  <Override PartName="/ppt/media/image7.png" ContentType="image/png"/>
  <Override PartName="/ppt/media/image12.png" ContentType="image/png"/>
  <Override PartName="/ppt/media/image21.pct" ContentType="image/x-pict"/>
  <Override PartName="/ppt/media/image19.pct" ContentType="image/x-pict"/>
  <Override PartName="/ppt/media/image8.png" ContentType="image/png"/>
  <Override PartName="/ppt/media/image13.png" ContentType="image/png"/>
  <Override PartName="/ppt/media/image22.pct" ContentType="image/x-pict"/>
  <Override PartName="/ppt/media/image9.png" ContentType="image/png"/>
  <Override PartName="/ppt/media/image4.png" ContentType="image/png"/>
  <Override PartName="/ppt/media/image28.pct" ContentType="image/x-pict"/>
  <Override PartName="/ppt/media/image30.pct" ContentType="image/x-pict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.pct" ContentType="image/x-pict"/>
  <Override PartName="/ppt/media/image25.pct" ContentType="image/x-pict"/>
  <Override PartName="/ppt/media/image14.png" ContentType="image/png"/>
  <Override PartName="/ppt/media/image15.png" ContentType="image/png"/>
  <Override PartName="/ppt/media/image16.png" ContentType="image/png"/>
  <Override PartName="/ppt/media/image23.pct" ContentType="image/x-pict"/>
  <Override PartName="/ppt/media/image24.pct" ContentType="image/x-pict"/>
  <Override PartName="/ppt/media/image26.pct" ContentType="image/x-pict"/>
  <Override PartName="/ppt/media/image2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EF3E7-0A6F-4C61-8D80-EED3D8ED86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82706-4156-4745-AF2D-90E39D6402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960" y="4778280"/>
            <a:ext cx="621648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8828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9892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764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8828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9892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637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186120"/>
            <a:ext cx="4757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6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9664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image" Target="../media/image22.pct"/><Relationship Id="rId4" Type="http://schemas.openxmlformats.org/officeDocument/2006/relationships/image" Target="../media/image23.pct"/><Relationship Id="rId5" Type="http://schemas.openxmlformats.org/officeDocument/2006/relationships/image" Target="../media/image24.pct"/><Relationship Id="rId6" Type="http://schemas.openxmlformats.org/officeDocument/2006/relationships/image" Target="../media/image25.pct"/><Relationship Id="rId7" Type="http://schemas.openxmlformats.org/officeDocument/2006/relationships/image" Target="../media/image26.pct"/><Relationship Id="rId8" Type="http://schemas.openxmlformats.org/officeDocument/2006/relationships/image" Target="../media/image27.pct"/><Relationship Id="rId9" Type="http://schemas.openxmlformats.org/officeDocument/2006/relationships/image" Target="../media/image28.pct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ct"/><Relationship Id="rId16" Type="http://schemas.openxmlformats.org/officeDocument/2006/relationships/image" Target="../media/image18.pct"/><Relationship Id="rId17" Type="http://schemas.openxmlformats.org/officeDocument/2006/relationships/slideLayout" Target="../slideLayouts/slideLayout2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4382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OLPC Curren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obert D. Fa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VP International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obert@laptop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5486400" cy="16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 Project Rollout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XOs is the easy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ing them is 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can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wnership, management and commitment is th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Rollout Key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, Accessory,  &amp; Distribution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air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Different Solution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wo deployments are a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re ev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trategic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5638680" cy="2475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14600" y="1143000"/>
            <a:ext cx="609480" cy="227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7400" y="1922400"/>
            <a:ext cx="533520" cy="3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048120" y="1625760"/>
            <a:ext cx="609480" cy="203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962520" y="1219320"/>
            <a:ext cx="609480" cy="372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72880" y="1752480"/>
            <a:ext cx="870120" cy="241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752480" y="1371600"/>
            <a:ext cx="381240" cy="3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32767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3124080" y="1295280"/>
            <a:ext cx="6098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Uruguay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CEIBAL, 1:1 during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ve saturating competitive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,000 XO’s delivered, more to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government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13716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Nigeria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0 XO’s donated by 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anctioned school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out, school implementation run by a second private sector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15872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Lebanon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Refugee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GO orchast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s/Rollout: UNR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upport: Norwegian People’s 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13273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Models that Work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eering and Leaders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and Global Impact: Make it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gets more effective,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OLP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do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do more of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What is OLPC?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7640" y="11426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is a non-profit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d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ll to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ed Open Sourc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ke-up an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475776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: The laptop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289584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nths of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600,000 ship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0,000 by year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29000" y="1866960"/>
            <a:ext cx="15238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rdering Logistic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7640" y="11426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happens a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/80 advance payment/letter of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+/- days from order to sh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G1G1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77640" y="99036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an XO and Give an XO to a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7, 85,000 X0s in 7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gger Presence,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R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1360" y="357120"/>
            <a:ext cx="5119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Key Partners from Private &amp; Public Se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36600" y="1062000"/>
            <a:ext cx="1120680" cy="425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03880" y="1352520"/>
            <a:ext cx="745920" cy="339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789200" y="1020600"/>
            <a:ext cx="777960" cy="32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09880" y="1187280"/>
            <a:ext cx="496800" cy="284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324240" y="1892160"/>
            <a:ext cx="1427040" cy="211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95200" y="2222640"/>
            <a:ext cx="1079640" cy="203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370240" y="1808280"/>
            <a:ext cx="585720" cy="642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3822840" y="896760"/>
            <a:ext cx="414360" cy="414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1623960" y="1725480"/>
            <a:ext cx="382680" cy="384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3733920" y="2590920"/>
            <a:ext cx="699840" cy="201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420840" y="280368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3033720" y="2513160"/>
            <a:ext cx="384120" cy="777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4610160" y="2762280"/>
            <a:ext cx="358560" cy="528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4"/>
          <a:stretch/>
        </p:blipFill>
        <p:spPr>
          <a:xfrm>
            <a:off x="533520" y="1676520"/>
            <a:ext cx="711000" cy="388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5"/>
          <a:stretch/>
        </p:blipFill>
        <p:spPr>
          <a:xfrm>
            <a:off x="2736720" y="2050920"/>
            <a:ext cx="12960" cy="12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1371600" y="2971800"/>
            <a:ext cx="129528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Global Number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2203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Global Network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on collective works,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ng OLPC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Robert Fadel</cp:lastModifiedBy>
  <dcterms:modified xsi:type="dcterms:W3CDTF">2008-11-17T16:15:33Z</dcterms:modified>
  <cp:revision>106</cp:revision>
  <dc:subject/>
  <dc:title>One Laptop per Child</dc:title>
</cp:coreProperties>
</file>